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4332-0E08-4D00-BE80-5CE6C8AFD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0DB2-FCAD-454C-BB68-448BDD3E3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5B87-9B6C-4EE5-ADA8-40882B2C6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0A40-1361-433E-8F95-50185CC3E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F9970-9822-4164-91F3-8F8350073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4FF2C-34EE-4E0B-9C38-B0AEA59B9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16CC7-D4C3-4CA3-BA2E-F7866F2E4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56F4D-C22B-43DE-A042-D281A4FF1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23F00-D6EC-4401-B7D2-9F2E1D368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B0B59-EFE3-44DB-929A-579A4AB2F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2EA19-A81D-4F74-BC08-E51B7C5A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A3F8-0182-496F-A67E-5CC54C44A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D1FE0-3321-40AE-BA73-F39990B8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C4FFC-D97C-4106-A43C-31FD4B5B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3F3DA-E33C-4021-BCEE-6FB84E2DE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63E7B-D0A5-4BFE-AAE0-2D61A7AE7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B4976-5E64-4021-AAE7-F1B8D7A90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3171-48AC-4508-8389-090A8AB67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C384-0F56-408E-B164-E2F8C1381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4037-53A6-4768-AC5C-863D1C5EC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96A2-32DB-4F6C-BC2C-99E66A34C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81C5-9D0E-40BF-B08C-01248CC7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4DBD-EFA9-47F0-9D01-0A70B5F1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777F-27A4-4452-A64A-8B6D42F74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44488-8441-46DC-B679-C95840A1CD7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5E0EC-2483-4A97-A142-E3940983675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Rovné příležitosti žen a muž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třeba přistupovat ke každému člověku stejným způsobem nehledě na rasu, sexuální orientaci, pohlaví, fyzický vzhled nebo další odlišnosti, patří </a:t>
            </a:r>
            <a:br>
              <a:rPr sz="1600"/>
            </a:b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současnosti mezi jednu z hlavních zásad života ve společnost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rincip rovných příležitostí znamená potírání diskriminace a předcházení diskriminaci na základě pohlaví, rasy, etnického původu, náboženského vyznání, víry, zdravotního postižení, věku či sexuální orient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erovnost na základě pohlaví lze identifikovat i v rámci jednotlivých sociálně ohrožených skupin, jedná se pak o kombinaci několika znevýhodňujících faktor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R</a:t>
            </a:r>
            <a:r>
              <a:rPr b="0" lang="en-GB" sz="1600" spc="-1" strike="noStrike">
                <a:solidFill>
                  <a:srgbClr val="143f7e"/>
                </a:solidFill>
                <a:latin typeface="Arial"/>
              </a:rPr>
              <a:t>ovné příležitosti pro muže a žen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= </a:t>
            </a:r>
            <a:r>
              <a:rPr b="0" lang="en-GB" sz="1600" spc="-1" strike="noStrike">
                <a:solidFill>
                  <a:srgbClr val="143f7e"/>
                </a:solidFill>
                <a:latin typeface="Arial"/>
              </a:rPr>
              <a:t>absenc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e</a:t>
            </a:r>
            <a:r>
              <a:rPr b="0" lang="en-GB" sz="1600" spc="-1" strike="noStrike">
                <a:solidFill>
                  <a:srgbClr val="143f7e"/>
                </a:solidFill>
                <a:latin typeface="Arial"/>
              </a:rPr>
              <a:t> překážek bránících občanům na základě jejich příslušnosti k pohlaví v účasti na ekonomice, politice a v sociální oblasti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Cílem politiky rovnosti žen a mužů je zajistit, aby ženy i muži měli stejná práva, povinnosti a příležitosti ve všech sférách živo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Formální rovnost (de jure) je pouze první krok k skutečné rovnosti (de facto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Rovné příležitosti žen a muž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43f7e"/>
                </a:solidFill>
                <a:latin typeface="Arial"/>
              </a:rPr>
              <a:t>Otázka rovnosti žen a mužů jako jeden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e základních cílů Evropského společenstv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1131c"/>
                </a:solidFill>
                <a:latin typeface="Arial"/>
              </a:rPr>
              <a:t>Římská smlouva (1957)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 obsahovala ustanovení zavádějící princip rovného odměňování pro ženy a muž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1131c"/>
                </a:solidFill>
                <a:latin typeface="Arial"/>
              </a:rPr>
              <a:t>Plán Komise pro dosažení rovného postavení žen a mužů 2006 - 2010 (Roadmap)</a:t>
            </a:r>
            <a:r>
              <a:rPr b="0" lang="cs-CZ" sz="1800" spc="-1" strike="noStrike">
                <a:solidFill>
                  <a:srgbClr val="d1131c"/>
                </a:solidFill>
                <a:latin typeface="Arial"/>
              </a:rPr>
              <a:t>: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tejná ekonomická nezávislost pro ženy i muže; sladění soukromého a profesního života; stejné zastoupení žen a mužů </a:t>
            </a:r>
            <a:br>
              <a:rPr sz="1800"/>
            </a:b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v rozhodovacích procesech; odstraňování všech forem násilí založeného na pohlaví; odstraňování stereotypů o roli žen a mužů ve společnosti ; podpora rovného postavení žen a mužů v zahraniční a rozvojové politice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Rovné příležitosti žen a muž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Strategie EU pro rovnost žen a mužů 2010 – 2015: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výšit počet žen na trhu práce, a pomoci tak při dosahování cílové míry zaměstnanosti stanovené ve strategii Evropa 2020 (tj. 75 % celkově pro muže i ženy), zvýšit počet žen na vysokých pozicích, podpořit podnikání žen, zavést rovnost v odměňování (ženy vydělávají v průměru o zhruba 18 % méně než jejich mužští kolegové), spolupracovat se všemi členskými státy při potírání násilí na žená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00000"/>
                </a:solidFill>
                <a:latin typeface="Arial"/>
              </a:rPr>
              <a:t>Evropský pakt pro rovnost žen a mužů</a:t>
            </a: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: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</a:t>
            </a: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řijat na zasedání Evropské rady </a:t>
            </a:r>
            <a:br>
              <a:rPr sz="1800"/>
            </a:b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v březnu 2006, deklaruje politickou vůli vrcholných představitelů členských států EU zajistit rovné postavení žen a mužů na trhu práce a potírání stereotypních předsudků o roli žen a mužů v zaměstnání,  zlepšení podmínek pro sladění pracovního a rodinného života žen a mužů a posílení hlediska rovnosti žen a mužů ve všech plánovacích a rozhodovacích procesech (gender mainstreaming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Rovné příležitosti žen a muž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43f7e"/>
                </a:solidFill>
                <a:latin typeface="Arial"/>
              </a:rPr>
              <a:t>Rovné příležitosti žen a mužů také tvoří významnou součást aktivit Evropského sociálního fondu.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vinnost dodržovat rovné příležitosti vyplývá pro Českou republiku z </a:t>
            </a: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nařízení Rady (ES) č. 1083 / 2006 / čl. 16 / Rovné příležitosti žen a mužů a zákaz diskriminace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: </a:t>
            </a:r>
            <a:r>
              <a:rPr b="0" i="1" lang="cs-CZ" sz="1800" spc="-1" strike="noStrike">
                <a:solidFill>
                  <a:srgbClr val="143f7e"/>
                </a:solidFill>
                <a:latin typeface="Arial"/>
              </a:rPr>
              <a:t>„Členské státy a Komise zajistí podporu rovnosti žen a mužů a začlenění hlediska rovnosti pohlaví během jednotlivých fází provádění pomoci z fondů. Členské státy a Komise přijmou vhodná opatření, aby v jednotlivých fázích provádění fondů, a zejména při přístupu k nim, nedocházelo k diskriminaci na základě pohlaví, rasy nebo etnického původu, náboženského vyznání nebo světového názoru, zdravotního postižení, věku nebo sexuální orientace.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Projekty Evropského sociálního fondu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by měly jít v tomto ohledu ostatním příkladem. Měly by prokázat, že dodržováním principů a zásad horizontálních témat nedochází pouze k plnění administrativních požadavků (spojených s využíváním finančních prostředků Evropského sociálního fondu), ale především k přínosnému a prospěšnému kroku pro všech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Rovné příležitosti žen a muž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naha ŘO, aby v rámci horizontálního tématu rovné příležitosti nedocházelo pouze k formálnímu naplně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lánované </a:t>
            </a: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změny při aplikaci horizontálního tématu rovné příležitosti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 rámci OP LZZ v příštím programovacím obdob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ilotní otestování plánovaných změn v rámci výzvy 8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vinná příloha výzvy </a:t>
            </a: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Zhodnocení rovnosti žen a mužů v projektových žádostech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– v budoucnu by měla být přímo součástí projektové žádosti </a:t>
            </a:r>
            <a:br>
              <a:rPr sz="1800"/>
            </a:b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 nahradit tak stávající otázky na záložce Horizontální téma rovné příležitosti v aplikaci Benefit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dpůrný dokument </a:t>
            </a: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Pokyny pro vyplnění přílohy Zhodnocení rovnosti žen </a:t>
            </a:r>
            <a:br>
              <a:rPr sz="1800"/>
            </a:br>
            <a:r>
              <a:rPr b="0" lang="cs-CZ" sz="1800" spc="-1" strike="noStrike">
                <a:solidFill>
                  <a:srgbClr val="c00000"/>
                </a:solidFill>
                <a:latin typeface="Arial"/>
              </a:rPr>
              <a:t>a mužů v projektových žádostech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: návod a pomůcka, jak správně zapracovat hledisko rovnosti žen a mužů do žádosti o finanční podporu </a:t>
            </a:r>
            <a:br>
              <a:rPr sz="1800"/>
            </a:b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 v budoucnu přispět k posílení horizontálního tématu rovné příležitosti v celém OP LZZ. Naleznete zde vysvětlení, co by měly obsahovat odpovědi na jednotlivé otázky Zhodnocení rovnosti žen a mužů v projektových žádoste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8088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4407e"/>
                </a:solidFill>
                <a:latin typeface="Arial"/>
              </a:rPr>
              <a:t>Děkuji Vám za pozorno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Šeredová Purschová Adéla, PhDr. (MPSV)</cp:lastModifiedBy>
  <dcterms:modified xsi:type="dcterms:W3CDTF">2012-03-19T11:32:39Z</dcterms:modified>
  <cp:revision>576</cp:revision>
  <dc:subject/>
  <dc:title>Snímek 1</dc:title>
</cp:coreProperties>
</file>